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18.png" ContentType="image/png"/>
  <Override PartName="/ppt/media/image15.jpeg" ContentType="image/jpeg"/>
  <Override PartName="/ppt/media/image13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6.jpeg" ContentType="image/jpeg"/>
  <Override PartName="/ppt/media/chimes.wav" ContentType="audio/x-wav"/>
  <Override PartName="/ppt/media/image14.jpeg" ContentType="image/jpeg"/>
  <Override PartName="/ppt/media/image8.png" ContentType="image/png"/>
  <Override PartName="/ppt/media/image11.jpeg" ContentType="image/jpeg"/>
  <Override PartName="/ppt/media/image17.jpeg" ContentType="image/jpeg"/>
  <Override PartName="/ppt/media/image3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</p:sldIdLst>
  <p:sldSz cx="9144000" cy="6858000"/>
  <p:notesSz cx="6858000" cy="8891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88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-360"/>
            <a:ext cx="29718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204920" y="666360"/>
            <a:ext cx="4448160" cy="333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222440"/>
            <a:ext cx="548640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445600"/>
            <a:ext cx="297180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8445600"/>
            <a:ext cx="297180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7DF3-D8A7-4342-AE2F-0F44A284497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204920" y="666720"/>
            <a:ext cx="4448160" cy="333540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222440"/>
            <a:ext cx="548640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Marcador de número de diapositiva 3"/>
          <p:cNvSpPr/>
          <p:nvPr/>
        </p:nvSpPr>
        <p:spPr>
          <a:xfrm>
            <a:off x="3884760" y="8445600"/>
            <a:ext cx="2971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34AF-BFDD-4531-B9C2-1FBAC512751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117E-2076-4B1C-AA76-0ADB3D8C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750F-1AB9-43D9-83DE-9330D461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308EA-B823-463C-A668-37E62BB8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E6B1D-9E7C-4690-9E7D-534C54D3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9C419-EBC9-4178-8784-D4065FB2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EA8C5-2032-4E2F-ABC8-FC4D8BE5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37D779-EC37-4419-B24D-01778F24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480AA-92D4-4BAD-857E-BF9AF114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A1845-A5AB-4143-870E-97D340F0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3BA0B-40FB-41EC-AF82-1F661905E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8D5518-9264-4368-AFE0-8DC26253D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9BE52-BF56-416B-8E8F-EE80BBA3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EAB0-C320-4452-86B6-1282C286A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FB6752-CDA9-49DB-861E-20F5481D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63CA1F-4248-45C7-8D98-96E4094E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780ABF-C1BA-4351-9F5A-D86DA5BB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6650B-B4A9-4828-B5B3-828ECB15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75E9A6-B0A6-4040-ABA7-5AFCF73C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0469F2-B5AC-48DA-B70A-F7AC07C4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9475B6-FB55-42A4-8B90-CC4A2788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D9F056-5FD1-4F97-8B8A-7E1522C4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045414-C3A9-4082-83FF-C1427226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7A8274-585C-4F7A-A127-B05C7DE57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17BF-9E90-4BFD-9B98-F6D148F21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E4DA9-D3E2-4956-A7CA-85B068389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47D65-6E6D-4CE9-9F54-3ACD30C01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E061B-0CBC-4284-B99D-9F9D78CB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BFA17-01D4-4B6F-99E3-7E459B1C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D314E-BFB7-4A89-A1B4-45F10203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F04F4-28C7-4E37-A8A8-B949FF62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11920-B188-461F-BDE0-771BE79A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5563D-7BFC-40B2-984C-7B96E8BD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EE5E5-BB80-49BB-B401-8DB39C8B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4921B-AA68-4662-8F41-82D118AD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B06F-52AA-430C-A2C1-4AAAECDC3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57300-96A6-4A96-8A63-7CA78C8F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A8DC5-1E00-49D4-8161-3ED40CD8E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AC1CC-48FE-435F-B76B-3A71285B5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025382-C933-4ED3-8277-E6760E1C9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F93F4E-129D-4820-8C30-D38C0E4C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3645F1-AD32-4F89-BAFF-BEF2232B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175027-43C5-4899-B4AD-796F707E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2BDFD5-760D-4A6A-BC65-B6236F6D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F373F7-172B-43D5-8999-8789B760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59BE77-1CB4-4670-A670-897AD460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F2F1-C137-476D-9DCD-4E9884F9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0C3841-131B-461C-BAB1-33C6D234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136948-9977-4820-A44C-CACC87CA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B39F47-8FE2-4334-8DCB-5B29D6B1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2C2523-4B8D-4F87-9524-061F775E9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B2D38D-D600-4551-8EFD-C5FCDB3F3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474651-441D-4A88-B607-54C40BCD8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6E7498-8111-463B-A2B0-2CAC5812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D4B785-D77B-4984-815E-D73C78F0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7F8686-360E-40B0-80A6-E9893BA1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3EC7BC-328E-4657-AF02-99647094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CC08-DCBF-4774-B09B-7D669207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E2C042-A0B8-4A2E-990D-FDD9567F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721849-A56E-45D8-9285-01D89101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B3AE1A-0507-4C08-B800-729802DB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85F847-0FAE-4542-AC70-DD13C874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A3F287-1774-4ABC-B563-CE52A984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B0270A-B218-44D2-A110-617C771BF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16683B-692A-4C0E-891E-32D146C01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2E11E3-4A06-4D16-AB6C-D4738C783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D6438B-AD18-4CB9-A978-D48C377C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F35D7F-F848-4FBB-B5F0-A93484F4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7481-C26E-4003-A0B5-B0110959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8F0F4B-EC46-47A9-A2F7-5685AE5D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892F03-3DE4-46EE-B633-9475334F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98A18F-A6EA-4204-8C9B-53D1EA32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410C04-0AAB-4959-946A-F609B814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F7DD19-14D1-41EF-A5B7-08BB9308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663FDD-4A48-4247-9385-2F4C0463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4A3EC5-1B63-4227-9B9D-DB4A5DCF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7C2166-6173-4907-B79E-0C66E49D9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679CFA-C1EB-4061-B47D-39EC22151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BA1835-C0BA-4DE8-925F-7A2CB2736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90A2-4952-44B9-BD46-FE6137D7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D68169-DF02-413D-9EEE-3C3524CE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5E61EA-B7E1-47AF-ABEC-726F6E68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12D610-B040-44AC-B9F1-E48C5C5A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393CC2-C6E8-497F-9012-AB6F853B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012959-D3D1-4771-B23C-81019162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1FD044-43C4-427A-8544-28EBD8C3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4399B7-211C-4727-9B0B-8461AF0D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A6D0E7-950C-4381-AAEB-7C2C280F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F852D6-B284-4F83-8DC4-ED5E7665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4E65A8-CC03-4478-9FB9-A6D733D1D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F631-A4CB-4CF0-94DE-3659180E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23CA9F-9970-4DF6-AF1B-13BC8C4DE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D295D0-A25E-4A06-B848-042327D90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8E47D9-BAEC-4C4B-BC5E-1A6532CE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0E2A11-9CDC-4C5A-B884-7370E5B5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B2FB5B-683A-449F-ADAD-022CDF37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6F79DA-C0FC-443A-9FE2-7386EDEE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586690-251E-4F8A-BAD5-8BC8EE5A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5D7AB3-1562-48FA-82C9-B045BEDA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CDA14D-CA29-49E0-9B72-8C418804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1F5447-E2F2-4913-BE2C-D0A63992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6D29-A5C2-4CEA-8CC1-C9F30457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F26943-7F71-4246-9802-290D0069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FE0FDE-56E6-4EEB-9019-95D7406B6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6F8C48-F182-447E-95BF-DFDF120DD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2F436D-6875-4E0E-90F8-6191710A9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B235E9-DB93-4CF3-8714-7AACFFA4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A25F74-2FEF-4473-B96A-23DE42B4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08BD25-09DF-405A-B348-781CF057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FA291A-7097-4DAD-811D-1874039A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4D6038-23DC-42FF-B54D-CA3DF458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870B58-567C-440B-8388-60D8B5F6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405C-6C08-491D-84B5-98E50D33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410F-A857-49C7-9124-3B82E116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F877A0-B8BC-48AB-A5C2-34C50A84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9283F5-57A4-4A2D-98F1-48695D33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3B3A3F-F46E-4087-A1C7-16DA464D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4457A9-4F6F-469D-9F7D-2EB8CE1E8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AE536D-9BC6-4B70-98B2-FDA30F0D2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C631-2809-4812-BB03-8E13C9E1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068D-AC03-42F6-A12A-166E15DD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F3A5-B47F-4392-92BA-D4DD07921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BB8E-5CE4-405E-8A87-D460EDD23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B2DC6-1D93-46B6-83CD-47B53688D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76D19-BCBF-414D-A27E-3E2CB0EA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B6C4A-3C5A-4D89-930E-A249DBC3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85242-53B1-441A-9666-5070FB35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14EB9-6C01-4C25-A6BB-53781CCB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1FC8-0473-446B-B7DE-B65D3824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6810A-5940-48D8-B887-4CD86544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EFE84-A068-4B3D-9882-8FA4D259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9C50D-338A-42D7-9202-1ADC9B01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02BC2-0ED5-4108-B0A0-D8253521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21A49-A5D7-42F5-980F-99FC5432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B0424-DC89-4DF8-A957-33E0A2CD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9FABF-BEA0-4821-870F-C1244D809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48310-F4C7-44D5-8222-7F2AB11AE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1F241-0E03-4E0F-BF4D-78BB08D3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FBDA0-96B0-4D8F-BF4B-CCDC0970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8A62-F102-4EE3-9223-43F364C1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0A12F-4253-4CB7-AB8F-778C59A1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6FAC6-3582-4FF5-BA34-3EF5CDCE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B4303-B377-437C-B7CA-DAB649B2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B120F-BC6A-41D4-A6C2-9822513A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0A273-7AEF-4344-936B-EBEA7C14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7B606-2234-46D2-A14D-AA991CDC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33E64-9F9D-4A02-82F6-BA1E0A66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04EFA-B4D8-4791-95FD-5B17DFABB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9E194-B6E8-4774-A90F-901218E75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845C4-5361-49BE-BF54-0AD11EFCB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7009-03D5-4227-A0D2-F2A370AD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59AA4-04D1-4634-9BE8-468D271B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54DF1-2680-4DD1-9C6F-D8EAE64C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3B1BB-0FE0-4571-9B96-E2C61966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B38CB-FFAD-49E4-9DEA-3FB1886C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A1AC1-A417-4902-ACDA-A78B9BD8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CC546-58A2-4C09-8E78-ED3E903F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CF1BC-5BF5-479C-B825-231892F9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0AE40-5DDE-484D-A588-40E78259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DFC9A-8EB8-45D8-B1FE-1D86B105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2819F-1F0D-4986-8E7E-72E19A3B2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F9BF-DD13-4B45-A501-132E134C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6CDCC-E056-485D-85AE-229504A8A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35486-004D-4230-BBA6-08806DBA0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C91B0-E559-4E86-9609-C45F8962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F40C5-6006-46D3-9158-CC19B083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C609D-9A8F-41B7-9851-8A484670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D1C75-E91C-45FF-A723-3C7012FE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3E6F2-4492-4948-A0E6-822900C7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11FF6-5AB0-4479-981D-9B3D4292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291C8-6AA3-468D-9BB5-7B366764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9EDEB-0327-48F1-BC03-2E38FA25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A9BA-6F3C-42F9-8691-F29170CE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F58A6-EBA6-4C73-9754-4BB47C21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37629-33CD-4DC6-849F-4DBFFF560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03AE7-E8D9-439B-AA51-9E3F9D26F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ED57D-2C82-4244-80CD-6F8BC6586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E6C1D-E14A-4B32-BB0F-A9144499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D9AFA-9379-4F70-ABBA-43836FD6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1ABCE-D279-4F2D-BA66-C7319A72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416FA-917B-4CF5-92A2-E28BBE8E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C5181-6F0A-4EEE-9EB1-14DF1AE3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A4775-8867-45D0-897F-F262FE79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A9E2-800B-4F65-A8FF-016BDE90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3B13A-0DBD-4078-8B90-36B6F60E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D224E-208D-4BB6-BA60-01D7CF4E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A6A06-3C8A-44F0-AB58-23150C0F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69857-EE26-4359-9FD6-75C110D1F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7F97E-7A4B-439D-96E6-E9CEDC5EB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DE214-B857-4E3A-9CD2-694039CD6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A27DF-CB44-4CE3-A1FB-B9FB9374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6B85B-213B-4A09-8131-95BFD31F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DDF5E-89EC-443A-8971-9961EEA9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042DC-5E3F-4555-AF4D-FBBA8D1D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8ECD-F346-4000-899D-5B7E98A0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017C0-83F4-42EE-8036-FACCA561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1A61D-7D88-480D-B351-75953BF4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255C3-88D1-4278-BF67-D7EBE367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DD371-51E4-4952-BC24-FD575D44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0D280-C443-4A0A-BD74-94EFC4C8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8517E-D308-490C-B640-025A925A0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377DB-BE63-4211-AB27-7CC3F51B5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FB24C-3668-48F4-9BF8-233702454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218AF-34D4-4833-B6EF-A25E1461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6DF249-D55F-495E-AD7E-4883ED6B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F661-71BC-473D-82BD-B71E8B6B1472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1722-F13B-4DFB-8F7A-11EA68CDC91E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E677-19EF-4072-9EDE-2D085CD0C877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5b9bd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7" name="TextBox 14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5b9bd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FB6C-505D-4293-BF3A-65FB40DF69D3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10EA-6215-4F72-9620-5BDB5E05B966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6" name="TextBox 10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5b9bd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7" name="TextBox 11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5b9bd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1DD7-21F4-4F76-9086-8534EEFAA769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0DAA-AA00-4E3D-B2AC-9FE4D66CBF4E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98A4-0621-4860-B75E-E00FE4101D60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32FE-FB8E-440E-A16F-B0CE19ED99A5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336E-CE52-4BBF-98AE-296CDDA57AC5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0283-3E3F-4032-BE38-39BC351FDBDC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A3B5-BC38-4CAC-9BD9-17322D2A45A3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7200-5EBA-47FA-92DE-EDB67A69824E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8C20-CBF1-45B6-BBF5-1AB323BDA982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C321-6DEA-464F-829A-9C7FAE2A65B6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08AF-9292-4D51-8105-7D7E801CFFFE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28F6-EDCF-4D84-87B4-A0DC39447ECD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115640" y="360000"/>
            <a:ext cx="7723080" cy="17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endParaRPr b="0" lang="en-US" sz="4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subTitle"/>
          </p:nvPr>
        </p:nvSpPr>
        <p:spPr>
          <a:xfrm>
            <a:off x="1289160" y="2852640"/>
            <a:ext cx="7416720" cy="1008000"/>
          </a:xfrm>
          <a:prstGeom prst="rect">
            <a:avLst/>
          </a:prstGeom>
          <a:noFill/>
          <a:ln w="9360">
            <a:solidFill>
              <a:srgbClr val="657d9d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MX" sz="2400" spc="-1" strike="noStrike">
                <a:solidFill>
                  <a:srgbClr val="595959"/>
                </a:solidFill>
                <a:latin typeface="Arial"/>
                <a:ea typeface="Arial"/>
              </a:rPr>
              <a:t>“</a:t>
            </a:r>
            <a:r>
              <a:rPr b="1" i="1" lang="es-MX" sz="2400" spc="-1" strike="noStrike">
                <a:solidFill>
                  <a:srgbClr val="595959"/>
                </a:solidFill>
                <a:latin typeface="Arial"/>
                <a:ea typeface="Arial"/>
              </a:rPr>
              <a:t>Descentralización y gobernanza local: perspectivas para América Latina y el Caribe”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595959"/>
                </a:solidFill>
                <a:latin typeface="Arial"/>
                <a:ea typeface="Arial"/>
              </a:rPr>
              <a:t>Jorge Luis Herrera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400" spc="-1" strike="noStrike">
                <a:solidFill>
                  <a:srgbClr val="595959"/>
                </a:solidFill>
                <a:latin typeface="Arial"/>
                <a:ea typeface="Arial"/>
              </a:rPr>
              <a:t>Alcalde del Municipio de Aguadulce y Presidente de la Asociación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400" spc="-1" strike="noStrike">
                <a:solidFill>
                  <a:srgbClr val="595959"/>
                </a:solidFill>
                <a:latin typeface="Arial"/>
                <a:ea typeface="Arial"/>
              </a:rPr>
              <a:t> </a:t>
            </a:r>
            <a:r>
              <a:rPr b="0" lang="es-MX" sz="2400" spc="-1" strike="noStrike">
                <a:solidFill>
                  <a:srgbClr val="595959"/>
                </a:solidFill>
                <a:latin typeface="Arial"/>
                <a:ea typeface="Arial"/>
              </a:rPr>
              <a:t>de Municipios de Panamá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5" name="5 CuadroTexto"/>
          <p:cNvSpPr/>
          <p:nvPr/>
        </p:nvSpPr>
        <p:spPr>
          <a:xfrm>
            <a:off x="1619280" y="5877000"/>
            <a:ext cx="68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000000"/>
                </a:solidFill>
                <a:latin typeface="Arial"/>
                <a:ea typeface="Arial"/>
              </a:rPr>
              <a:t>Panamá, 10 de junio de 2015</a:t>
            </a:r>
            <a:r>
              <a:rPr b="0" lang="es-PA" sz="2000" spc="-1" strike="noStrike">
                <a:solidFill>
                  <a:srgbClr val="000000"/>
                </a:solidFill>
                <a:latin typeface="Gill Sans MT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6" name="3 Rectángulo"/>
          <p:cNvSpPr/>
          <p:nvPr/>
        </p:nvSpPr>
        <p:spPr>
          <a:xfrm>
            <a:off x="1258920" y="189000"/>
            <a:ext cx="7580160" cy="2301480"/>
          </a:xfrm>
          <a:prstGeom prst="rect">
            <a:avLst/>
          </a:prstGeom>
          <a:solidFill>
            <a:srgbClr val="cecece"/>
          </a:solidFill>
          <a:ln cap="rnd" w="9360">
            <a:solidFill>
              <a:srgbClr val="9d9d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4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ts val="14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ts val="14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ts val="14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ts val="14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ts val="14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ts val="14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ts val="14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A" sz="2400" spc="-1" strike="noStrike">
                <a:solidFill>
                  <a:srgbClr val="1f4e79"/>
                </a:solidFill>
                <a:latin typeface="Arial"/>
                <a:ea typeface="Times New Roman"/>
              </a:rPr>
              <a:t>“</a:t>
            </a:r>
            <a:r>
              <a:rPr b="0" i="1" lang="es-PA" sz="2400" spc="-1" strike="noStrike">
                <a:solidFill>
                  <a:srgbClr val="1f4e79"/>
                </a:solidFill>
                <a:latin typeface="Arial"/>
                <a:ea typeface="Times New Roman"/>
              </a:rPr>
              <a:t>Seminario Internacional sobre buenas prácticas d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ts val="14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ts val="14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A" sz="2400" spc="-1" strike="noStrike">
                <a:solidFill>
                  <a:srgbClr val="1f4e79"/>
                </a:solidFill>
                <a:latin typeface="Arial"/>
                <a:ea typeface="Times New Roman"/>
              </a:rPr>
              <a:t>gestión y servicios inteligentes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ts val="14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ts val="1449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1f4e79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87" name="Picture 9" descr=""/>
          <p:cNvPicPr/>
          <p:nvPr/>
        </p:nvPicPr>
        <p:blipFill>
          <a:blip r:embed="rId1"/>
          <a:srcRect l="37009" t="0" r="0" b="0"/>
          <a:stretch/>
        </p:blipFill>
        <p:spPr>
          <a:xfrm>
            <a:off x="3708360" y="189000"/>
            <a:ext cx="1584360" cy="1079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777960"/>
          </a:xfrm>
          <a:prstGeom prst="rect">
            <a:avLst/>
          </a:prstGeom>
          <a:solidFill>
            <a:srgbClr val="d6dce5"/>
          </a:solidFill>
          <a:ln cap="rnd" w="9360">
            <a:solidFill>
              <a:srgbClr val="44546a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El marco jurídico en Panamá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89" name="3 Marcador de contenido" descr=""/>
          <p:cNvPicPr/>
          <p:nvPr/>
        </p:nvPicPr>
        <p:blipFill>
          <a:blip r:embed="rId1"/>
          <a:stretch/>
        </p:blipFill>
        <p:spPr>
          <a:xfrm>
            <a:off x="1427040" y="1401840"/>
            <a:ext cx="7527960" cy="51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797960" cy="1066680"/>
          </a:xfrm>
          <a:prstGeom prst="rect">
            <a:avLst/>
          </a:prstGeom>
          <a:solidFill>
            <a:srgbClr val="ffdca5"/>
          </a:solidFill>
          <a:ln cap="rnd" w="9360">
            <a:solidFill>
              <a:srgbClr val="f3b7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Artículo 233 de la Constitución Nacional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1" name="3 Marcador de contenido" descr=""/>
          <p:cNvPicPr/>
          <p:nvPr/>
        </p:nvPicPr>
        <p:blipFill>
          <a:blip r:embed="rId1"/>
          <a:stretch/>
        </p:blipFill>
        <p:spPr>
          <a:xfrm>
            <a:off x="1262160" y="1695600"/>
            <a:ext cx="7613640" cy="4333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07640" y="-12960"/>
            <a:ext cx="676764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A" sz="1800" spc="-1" strike="noStrike">
                <a:solidFill>
                  <a:srgbClr val="262626"/>
                </a:solidFill>
                <a:latin typeface="Century Gothic"/>
              </a:rPr>
              <a:t>Ley 37 de 29 de junio  de 2009.  Descentraliza la Administración Pública.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3" name="Diagrama 1" descr=""/>
          <p:cNvPicPr/>
          <p:nvPr/>
        </p:nvPicPr>
        <p:blipFill>
          <a:blip r:embed="rId1"/>
          <a:stretch/>
        </p:blipFill>
        <p:spPr>
          <a:xfrm>
            <a:off x="1517760" y="1390680"/>
            <a:ext cx="61149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658980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A" sz="3600" spc="-1" strike="noStrike">
                <a:solidFill>
                  <a:srgbClr val="262626"/>
                </a:solidFill>
                <a:latin typeface="Century Gothic"/>
              </a:rPr>
              <a:t>Gobernanza Territorial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5" name="8 Marcador de posición de imagen" descr="desarrollo_sostenible.gif"/>
          <p:cNvPicPr/>
          <p:nvPr/>
        </p:nvPicPr>
        <p:blipFill>
          <a:blip r:embed="rId1"/>
          <a:srcRect l="0" t="1275" r="0" b="1275"/>
          <a:stretch/>
        </p:blipFill>
        <p:spPr>
          <a:xfrm>
            <a:off x="6227640" y="3989520"/>
            <a:ext cx="2514600" cy="20937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96" name="6 Marcador de posición de imagen" descr="proyectos 1.jpg"/>
          <p:cNvPicPr/>
          <p:nvPr/>
        </p:nvPicPr>
        <p:blipFill>
          <a:blip r:embed="rId2"/>
          <a:stretch/>
        </p:blipFill>
        <p:spPr>
          <a:xfrm>
            <a:off x="4121280" y="1133640"/>
            <a:ext cx="2517480" cy="2511360"/>
          </a:xfrm>
          <a:prstGeom prst="rect">
            <a:avLst/>
          </a:prstGeom>
          <a:ln w="0">
            <a:noFill/>
          </a:ln>
        </p:spPr>
      </p:pic>
      <p:sp>
        <p:nvSpPr>
          <p:cNvPr id="1197" name="Rectángulo 1"/>
          <p:cNvSpPr/>
          <p:nvPr/>
        </p:nvSpPr>
        <p:spPr>
          <a:xfrm>
            <a:off x="696960" y="2205000"/>
            <a:ext cx="3260520" cy="4359960"/>
          </a:xfrm>
          <a:prstGeom prst="rect">
            <a:avLst/>
          </a:prstGeom>
          <a:solidFill>
            <a:srgbClr val="b0c9e6"/>
          </a:solidFill>
          <a:ln cap="rnd" w="9360">
            <a:solidFill>
              <a:srgbClr val="5694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entury Gothic"/>
              </a:rPr>
              <a:t>Los gobiernos moderan, coordinan, facilitan y capacitan para  definir objetivos y lograr resultados en las acciones dentro del territori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dissolve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8" name="1 Diagrama" descr=""/>
          <p:cNvPicPr/>
          <p:nvPr/>
        </p:nvPicPr>
        <p:blipFill>
          <a:blip r:embed="rId1"/>
          <a:stretch/>
        </p:blipFill>
        <p:spPr>
          <a:xfrm>
            <a:off x="828720" y="311040"/>
            <a:ext cx="7705800" cy="6242040"/>
          </a:xfrm>
          <a:prstGeom prst="rect">
            <a:avLst/>
          </a:prstGeom>
          <a:ln w="0">
            <a:noFill/>
          </a:ln>
        </p:spPr>
      </p:pic>
      <p:sp>
        <p:nvSpPr>
          <p:cNvPr id="1199" name="Rectángulo 2"/>
          <p:cNvSpPr/>
          <p:nvPr/>
        </p:nvSpPr>
        <p:spPr>
          <a:xfrm>
            <a:off x="458640" y="11592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Gobernanza territoria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d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CuadroTexto 1"/>
          <p:cNvSpPr/>
          <p:nvPr/>
        </p:nvSpPr>
        <p:spPr>
          <a:xfrm>
            <a:off x="5003640" y="0"/>
            <a:ext cx="3961080" cy="1313640"/>
          </a:xfrm>
          <a:prstGeom prst="rect">
            <a:avLst/>
          </a:prstGeom>
          <a:solidFill>
            <a:srgbClr val="ed7d31"/>
          </a:solidFill>
          <a:ln cap="rnd" w="15840">
            <a:solidFill>
              <a:srgbClr val="ae5a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ffffff"/>
                </a:solidFill>
                <a:latin typeface="Century Gothic"/>
              </a:rPr>
              <a:t>La gobernanza territorial permite fortalecer el proceso de descentraliz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201" name="Diagrama 3" descr=""/>
          <p:cNvPicPr/>
          <p:nvPr/>
        </p:nvPicPr>
        <p:blipFill>
          <a:blip r:embed="rId1"/>
          <a:stretch/>
        </p:blipFill>
        <p:spPr>
          <a:xfrm>
            <a:off x="1395360" y="1768320"/>
            <a:ext cx="6114960" cy="4078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2" name="Diagrama 1" descr=""/>
          <p:cNvPicPr/>
          <p:nvPr/>
        </p:nvPicPr>
        <p:blipFill>
          <a:blip r:embed="rId1"/>
          <a:stretch/>
        </p:blipFill>
        <p:spPr>
          <a:xfrm>
            <a:off x="828720" y="2127240"/>
            <a:ext cx="7486560" cy="4444920"/>
          </a:xfrm>
          <a:prstGeom prst="rect">
            <a:avLst/>
          </a:prstGeom>
          <a:ln w="0">
            <a:noFill/>
          </a:ln>
        </p:spPr>
      </p:pic>
      <p:sp>
        <p:nvSpPr>
          <p:cNvPr id="1203" name="Flecha abajo 3"/>
          <p:cNvSpPr/>
          <p:nvPr/>
        </p:nvSpPr>
        <p:spPr>
          <a:xfrm>
            <a:off x="1619280" y="115920"/>
            <a:ext cx="5473800" cy="1873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d7d31"/>
          </a:solidFill>
          <a:ln cap="rnd" w="15840">
            <a:solidFill>
              <a:srgbClr val="ae5a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1800" spc="-1" strike="noStrike">
                <a:solidFill>
                  <a:srgbClr val="ffffff"/>
                </a:solidFill>
                <a:latin typeface="Century Gothic"/>
              </a:rPr>
              <a:t>Experiencias exitosas de procesos gobernanza territoria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1400" spc="-1" strike="noStrike">
                <a:solidFill>
                  <a:srgbClr val="ffffff"/>
                </a:solidFill>
                <a:latin typeface="Century Gothic"/>
              </a:rPr>
              <a:t>(Distrito de Aguadulce</a:t>
            </a:r>
            <a:r>
              <a:rPr b="1" lang="es-PA" sz="1800" spc="-1" strike="noStrike">
                <a:solidFill>
                  <a:srgbClr val="ffffff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204" name="Imagen 5" descr=""/>
          <p:cNvPicPr/>
          <p:nvPr/>
        </p:nvPicPr>
        <p:blipFill>
          <a:blip r:embed="rId2"/>
          <a:stretch/>
        </p:blipFill>
        <p:spPr>
          <a:xfrm>
            <a:off x="7456320" y="4314960"/>
            <a:ext cx="916200" cy="836640"/>
          </a:xfrm>
          <a:prstGeom prst="rect">
            <a:avLst/>
          </a:prstGeom>
          <a:ln w="0">
            <a:noFill/>
          </a:ln>
        </p:spPr>
      </p:pic>
      <p:pic>
        <p:nvPicPr>
          <p:cNvPr id="1205" name="Imagen 6" descr=""/>
          <p:cNvPicPr/>
          <p:nvPr/>
        </p:nvPicPr>
        <p:blipFill>
          <a:blip r:embed="rId3"/>
          <a:stretch/>
        </p:blipFill>
        <p:spPr>
          <a:xfrm>
            <a:off x="7915320" y="5373720"/>
            <a:ext cx="615960" cy="907920"/>
          </a:xfrm>
          <a:prstGeom prst="rect">
            <a:avLst/>
          </a:prstGeom>
          <a:ln w="0">
            <a:noFill/>
          </a:ln>
        </p:spPr>
      </p:pic>
      <p:pic>
        <p:nvPicPr>
          <p:cNvPr id="1206" name="Imagen 7" descr=""/>
          <p:cNvPicPr/>
          <p:nvPr/>
        </p:nvPicPr>
        <p:blipFill>
          <a:blip r:embed="rId4"/>
          <a:stretch/>
        </p:blipFill>
        <p:spPr>
          <a:xfrm>
            <a:off x="6372360" y="3897360"/>
            <a:ext cx="915840" cy="836640"/>
          </a:xfrm>
          <a:prstGeom prst="rect">
            <a:avLst/>
          </a:prstGeom>
          <a:ln w="0">
            <a:noFill/>
          </a:ln>
        </p:spPr>
      </p:pic>
      <p:pic>
        <p:nvPicPr>
          <p:cNvPr id="1207" name="Imagen 8" descr=""/>
          <p:cNvPicPr/>
          <p:nvPr/>
        </p:nvPicPr>
        <p:blipFill>
          <a:blip r:embed="rId5"/>
          <a:stretch/>
        </p:blipFill>
        <p:spPr>
          <a:xfrm>
            <a:off x="468360" y="4362480"/>
            <a:ext cx="971640" cy="743040"/>
          </a:xfrm>
          <a:prstGeom prst="rect">
            <a:avLst/>
          </a:prstGeom>
          <a:ln w="0">
            <a:noFill/>
          </a:ln>
        </p:spPr>
      </p:pic>
      <p:pic>
        <p:nvPicPr>
          <p:cNvPr id="1208" name="Imagen 9" descr=""/>
          <p:cNvPicPr/>
          <p:nvPr/>
        </p:nvPicPr>
        <p:blipFill>
          <a:blip r:embed="rId6"/>
          <a:stretch/>
        </p:blipFill>
        <p:spPr>
          <a:xfrm>
            <a:off x="1666800" y="3500280"/>
            <a:ext cx="898560" cy="765360"/>
          </a:xfrm>
          <a:prstGeom prst="rect">
            <a:avLst/>
          </a:prstGeom>
          <a:ln w="0">
            <a:noFill/>
          </a:ln>
        </p:spPr>
      </p:pic>
      <p:pic>
        <p:nvPicPr>
          <p:cNvPr id="1209" name="Imagen 10" descr=""/>
          <p:cNvPicPr/>
          <p:nvPr/>
        </p:nvPicPr>
        <p:blipFill>
          <a:blip r:embed="rId7"/>
          <a:stretch/>
        </p:blipFill>
        <p:spPr>
          <a:xfrm>
            <a:off x="3995640" y="3500280"/>
            <a:ext cx="1081080" cy="1319400"/>
          </a:xfrm>
          <a:prstGeom prst="rect">
            <a:avLst/>
          </a:prstGeom>
          <a:ln w="0">
            <a:noFill/>
          </a:ln>
        </p:spPr>
      </p:pic>
      <p:pic>
        <p:nvPicPr>
          <p:cNvPr id="1210" name="Imagen 11" descr=""/>
          <p:cNvPicPr/>
          <p:nvPr/>
        </p:nvPicPr>
        <p:blipFill>
          <a:blip r:embed="rId8"/>
          <a:stretch/>
        </p:blipFill>
        <p:spPr>
          <a:xfrm>
            <a:off x="1614600" y="4375080"/>
            <a:ext cx="869760" cy="887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9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1" name="Picture 2" descr=""/>
          <p:cNvPicPr/>
          <p:nvPr/>
        </p:nvPicPr>
        <p:blipFill>
          <a:blip r:embed="rId1"/>
          <a:stretch/>
        </p:blipFill>
        <p:spPr>
          <a:xfrm>
            <a:off x="3249720" y="3565440"/>
            <a:ext cx="3316320" cy="2822760"/>
          </a:xfrm>
          <a:prstGeom prst="rect">
            <a:avLst/>
          </a:prstGeom>
          <a:ln w="0">
            <a:noFill/>
          </a:ln>
        </p:spPr>
      </p:pic>
      <p:sp>
        <p:nvSpPr>
          <p:cNvPr id="1212" name="1 CuadroTexto"/>
          <p:cNvSpPr/>
          <p:nvPr/>
        </p:nvSpPr>
        <p:spPr>
          <a:xfrm>
            <a:off x="2700360" y="1125360"/>
            <a:ext cx="3417840" cy="1008360"/>
          </a:xfrm>
          <a:prstGeom prst="rect">
            <a:avLst/>
          </a:prstGeom>
          <a:solidFill>
            <a:srgbClr val="cecece"/>
          </a:solidFill>
          <a:ln cap="rnd" w="9360">
            <a:solidFill>
              <a:srgbClr val="9d9d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000000"/>
                </a:solidFill>
                <a:latin typeface="Century Gothic"/>
              </a:rPr>
              <a:t>Gracias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dissolv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5T17:47:56Z</dcterms:created>
  <dc:creator>Marinelda</dc:creator>
  <dc:description/>
  <dc:language>en-US</dc:language>
  <cp:lastModifiedBy>AMUPA</cp:lastModifiedBy>
  <cp:lastPrinted>2015-06-09T16:11:16Z</cp:lastPrinted>
  <dcterms:modified xsi:type="dcterms:W3CDTF">2015-06-09T16:51:35Z</dcterms:modified>
  <cp:revision>106</cp:revision>
  <dc:subject/>
  <dc:title>Diapositiva 1</dc:title>
</cp:coreProperties>
</file>